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72BB-DE22-4313-8A29-AD5FAB8BF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CEBB-4EE0-4D42-BA2B-4C4CF473E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BA66-D2B1-4FFF-854C-2A82EE453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blogs.msdn.com/b/ptorr/archive/2005/02/22/guerillathreatmodelling.asp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k “Threat Modeling” by Frank Swiderski and Window Sny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405A-8887-46BA-9959-F8970A987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ttack Modeling for Information Security and Surviv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P. Moore, Robert J. Ellison, Richard C. Lin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ert.org/archive/pdf/01tn001.pdf</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C8F4-802A-47AE-A789-CDE15E76C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B8CB-19BE-4F0E-9869-8AE1CC385E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2992C-E3D0-4652-BF65-3EB1CDFAB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69F50-102E-4B33-9158-B08EBDE5B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5D3A8-31AA-4862-A910-16105CB0F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1D23E-C4B9-41CE-9ED5-11CD7EF46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31FED-00FF-4E66-ABA4-B306A2F6C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2BFF0-2277-4EC6-90B5-BD9FA84AA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9239B-1DA2-459E-A040-26CC443D6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07B39-4DFB-43E7-8F18-4E516BDBC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EBF1F-FF10-4F7B-83EF-59A72ABC8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5444B-BB41-42E0-BEBF-CB3E3D6A2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C00DD-BB2F-4DDF-AB20-983F355F9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BA0C6-909E-4310-951A-89138AA78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00EB-0BF8-476D-9ABF-A8A2147D79B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A08E-57BC-400F-BA78-493C8CA03C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6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WE 681 / ISA 681</a:t>
            </a:r>
            <a:br>
              <a:rPr sz="4000"/>
            </a:br>
            <a:r>
              <a:rPr b="0" lang="en-US" sz="4000" spc="-1" strike="noStrike">
                <a:solidFill>
                  <a:srgbClr val="000000"/>
                </a:solidFill>
                <a:latin typeface="Calibri"/>
              </a:rPr>
              <a:t>Secure Software Design &amp; Programming:</a:t>
            </a:r>
            <a:br>
              <a:rPr sz="4000"/>
            </a:br>
            <a:r>
              <a:rPr b="0" lang="en-US" sz="4000" spc="-1" strike="noStrike">
                <a:solidFill>
                  <a:srgbClr val="000000"/>
                </a:solidFill>
                <a:latin typeface="Calibri"/>
              </a:rPr>
              <a:t>Lecture 4: Desig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David A. Wheel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5-03-3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ing privileg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ive to provide “least privile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components should only have minimum necessary privileg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damage if attacker breaks i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make a program setuid; make it a normal program &amp; require admin logi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breaking into pieces with small trusted piece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ix-like system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mary privilege determiner is EUID/EG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Saved” SUID/SGID lets you temporarily disable/re-en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chroot” lets you limit filesystem visibility</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principle has many aspects</a:t>
            </a:r>
            <a:endParaRPr b="0" lang="en-US" sz="27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985E-85AE-40F7-A2DB-C9FED99116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privileges granted</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on’t grant root</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creating setuid root programs</a:t>
            </a:r>
            <a:endParaRPr b="0" lang="en-US" sz="24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ption: Create special group</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nt file access to that group</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gid group, or run daemon process as group</a:t>
            </a:r>
            <a:endParaRPr b="0" lang="en-US" sz="24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ption: Create special user</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servers typically do this (“nobody”)</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to create group than user – easier to admin group</a:t>
            </a:r>
            <a:endParaRPr b="0" lang="en-US" sz="24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ption: Limit database rights for application</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pseudo-user(s)/groups with limited rights</a:t>
            </a:r>
            <a:endParaRPr b="0" lang="en-US" sz="2400" spc="-1" strike="noStrike">
              <a:solidFill>
                <a:srgbClr val="000000"/>
              </a:solidFill>
              <a:latin typeface="Calibri"/>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application may only need select or insert</a:t>
            </a:r>
            <a:endParaRPr b="0" lang="en-US" sz="20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QL GRANT …</a:t>
            </a:r>
            <a:endParaRPr b="0" lang="en-US" sz="24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1027-5DFD-4844-8B8B-B703542B69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time privilege</a:t>
            </a:r>
            <a:br>
              <a:rPr sz="4400"/>
            </a:br>
            <a:r>
              <a:rPr b="0" lang="en-US" sz="4400" spc="-1" strike="noStrike">
                <a:solidFill>
                  <a:srgbClr val="000000"/>
                </a:solidFill>
                <a:latin typeface="Calibri"/>
              </a:rPr>
              <a:t>can be used</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manently give up privilege ASA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set EUID/EGID and SUID/SGID to RUID/RGI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ervers do thi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 root privileges to attach to port 80</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need them afterwards, so permanently drop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can’t do this</a:t>
            </a:r>
            <a:endParaRPr b="0" lang="en-US" sz="3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6FE3-D50F-47F5-88AE-81A8AE04C9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time privilege</a:t>
            </a:r>
            <a:br>
              <a:rPr sz="4400"/>
            </a:br>
            <a:r>
              <a:rPr b="0" lang="en-US" sz="4400" spc="-1" strike="noStrike">
                <a:solidFill>
                  <a:srgbClr val="000000"/>
                </a:solidFill>
                <a:latin typeface="Calibri"/>
              </a:rPr>
              <a:t>is activ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mporarily give up privileg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do with setuid(2), seteuid(2), setgroups(2)</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useful than giving up permanent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ttacks can force program to re-asser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some attacks can’t, so still helps</a:t>
            </a:r>
            <a:endParaRPr b="0" lang="en-US" sz="28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6096-FF23-47BC-8966-512536CFBE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modules granted privilege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reak into par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some parts (preferably small) have privile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API limits actions the rest can request</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Returns authenticated yes/no” &amp; hides password info</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reak up roles, e.g., “admin” vs “user” componen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 program for </a:t>
            </a:r>
            <a:r>
              <a:rPr b="0" i="1" lang="en-US" sz="2400" spc="-1" strike="noStrike">
                <a:solidFill>
                  <a:srgbClr val="000000"/>
                </a:solidFill>
                <a:latin typeface="Calibri"/>
              </a:rPr>
              <a:t>user</a:t>
            </a:r>
            <a:r>
              <a:rPr b="0" lang="en-US" sz="2400" spc="-1" strike="noStrike">
                <a:solidFill>
                  <a:srgbClr val="000000"/>
                </a:solidFill>
                <a:latin typeface="Calibri"/>
              </a:rPr>
              <a:t> interface far fewer privileg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app: Separate admin interface, different privilege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raditional GUI: Don’t give privilege to GU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 toolkits are bi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GUI talks to separate program with privileg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eate special program that does one small thing</a:t>
            </a:r>
            <a:endParaRPr b="0" lang="en-US" sz="27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8EDA-A34C-4834-BE57-2ED2D548AC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ing privileges:</a:t>
            </a:r>
            <a:br>
              <a:rPr sz="4400"/>
            </a:br>
            <a:r>
              <a:rPr b="0" lang="en-US" sz="4400" spc="-1" strike="noStrike">
                <a:solidFill>
                  <a:srgbClr val="000000"/>
                </a:solidFill>
                <a:latin typeface="Calibri"/>
              </a:rPr>
              <a:t>Limit accessible resources</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t all web program (e.g., CGI) data outside document tre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users cannot request data by UR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ize resources avail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 CPU resources, data space, et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goes haywire” can detect &amp; stop soon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hroot to limit visible files (next)</a:t>
            </a:r>
            <a:endParaRPr b="0" lang="en-US" sz="32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18A3-BABD-4919-BD29-C30C9CE89C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root</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x-like systems (unlike Windows) have a “top” directory “/” (root directo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hroot” call can change what “/” refers to in a process (privileged call)</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ed a “chroot jai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s large portions of filesystem inaccessibl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set up, call chroot, </a:t>
            </a:r>
            <a:r>
              <a:rPr b="0" i="1" lang="en-US" sz="3200" spc="-1" strike="noStrike">
                <a:solidFill>
                  <a:srgbClr val="000000"/>
                </a:solidFill>
                <a:latin typeface="Calibri"/>
              </a:rPr>
              <a:t>cd into chroot jail</a:t>
            </a:r>
            <a:r>
              <a:rPr b="0" lang="en-US" sz="3200" spc="-1" strike="noStrike">
                <a:solidFill>
                  <a:srgbClr val="000000"/>
                </a:solidFill>
                <a:latin typeface="Calibri"/>
              </a:rPr>
              <a:t>, close all files, and drop all privileg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ot cannot protect against root privileges</a:t>
            </a:r>
            <a:endParaRPr b="0" lang="en-US" sz="32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D277-493C-4D1F-82B9-1E9D179AA6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igure safely/ use safe default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ke initial installation secu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n’t have a “default” password – force sett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rt with most restrictive policy until reconfigu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Sample” configurations must be secu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ople </a:t>
            </a:r>
            <a:r>
              <a:rPr b="0" i="1" lang="en-US" sz="2200" spc="-1" strike="noStrike">
                <a:solidFill>
                  <a:srgbClr val="000000"/>
                </a:solidFill>
                <a:latin typeface="Calibri"/>
              </a:rPr>
              <a:t>will</a:t>
            </a:r>
            <a:r>
              <a:rPr b="0" lang="en-US" sz="2200" spc="-1" strike="noStrike">
                <a:solidFill>
                  <a:srgbClr val="000000"/>
                </a:solidFill>
                <a:latin typeface="Calibri"/>
              </a:rPr>
              <a:t> use them as starting point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ed files not writeable (or readable?) by othe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installable by non-root (if practica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install, check assumptions are tru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ke it easy to reconfigure while keeping secu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configuration easy in genera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ny access until specifically granted</a:t>
            </a:r>
            <a:endParaRPr b="0" lang="en-US" sz="26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09AE4-BD47-4062-8E30-6443941EF4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 initialization values safely</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load initialization values, make sure they can’t be subvert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 attacker can't change which initialization file is used, nor create or modify that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 traditional user application, don’t use current directory – use user’s home director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program is setuid/setgi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n’t read any file controlled by the user unless you carefully filter it as an untrusted (potentially hostile) in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sted configuration values should be loaded from somewhere else entirely (typically from a file in /etc)</a:t>
            </a:r>
            <a:endParaRPr b="0" lang="en-US" sz="26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61D17-02F4-4669-B7A9-3611649076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ize file privilege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nimize who can read</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ordinary users be able to read config fil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bably not, especially if sensitive info like passwords might be ther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roid: “other user” should not normally have r/w access (different applica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Especially</a:t>
            </a:r>
            <a:r>
              <a:rPr b="0" lang="en-US" sz="3000" spc="-1" strike="noStrike">
                <a:solidFill>
                  <a:srgbClr val="000000"/>
                </a:solidFill>
                <a:latin typeface="Calibri"/>
              </a:rPr>
              <a:t> minimize who can wri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checking before us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 stop processing configuration file if arbitrary user can write the file or directory it’s in</a:t>
            </a:r>
            <a:endParaRPr b="0" lang="en-US" sz="26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97DE-655F-44E5-A15A-156DDE0D54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tzer and Schroeder design princi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ety of design princip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privile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er TOCTOU issu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ack (Threat) modeling</a:t>
            </a:r>
            <a:endParaRPr b="0" lang="en-US" sz="3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7BFA-C888-455B-BC20-149210567B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il saf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ure </a:t>
            </a:r>
            <a:r>
              <a:rPr b="0" i="1" lang="en-US" sz="3200" spc="-1" strike="noStrike">
                <a:solidFill>
                  <a:srgbClr val="000000"/>
                </a:solidFill>
                <a:latin typeface="Calibri"/>
              </a:rPr>
              <a:t>will</a:t>
            </a:r>
            <a:r>
              <a:rPr b="0" lang="en-US" sz="3200" spc="-1" strike="noStrike">
                <a:solidFill>
                  <a:srgbClr val="000000"/>
                </a:solidFill>
                <a:latin typeface="Calibri"/>
              </a:rPr>
              <a:t> happ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 so if (when) program fails, safest possible result oc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possibilit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 open: Try to fail in a way that allows system to function (choose if </a:t>
            </a:r>
            <a:r>
              <a:rPr b="0" i="1" lang="en-US" sz="2800" spc="-1" strike="noStrike">
                <a:solidFill>
                  <a:srgbClr val="000000"/>
                </a:solidFill>
                <a:latin typeface="Calibri"/>
              </a:rPr>
              <a:t>availability</a:t>
            </a:r>
            <a:r>
              <a:rPr b="0" lang="en-US" sz="2800" spc="-1" strike="noStrike">
                <a:solidFill>
                  <a:srgbClr val="000000"/>
                </a:solidFill>
                <a:latin typeface="Calibri"/>
              </a:rPr>
              <a:t> most importa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 closed: Restrict access on failure, even if it means loss of service (choose if </a:t>
            </a:r>
            <a:r>
              <a:rPr b="0" i="1" lang="en-US" sz="2800" spc="-1" strike="noStrike">
                <a:solidFill>
                  <a:srgbClr val="000000"/>
                </a:solidFill>
                <a:latin typeface="Calibri"/>
              </a:rPr>
              <a:t>confidentiality</a:t>
            </a:r>
            <a:r>
              <a:rPr b="0" lang="en-US" sz="2800" spc="-1" strike="noStrike">
                <a:solidFill>
                  <a:srgbClr val="000000"/>
                </a:solidFill>
                <a:latin typeface="Calibri"/>
              </a:rPr>
              <a:t> or </a:t>
            </a:r>
            <a:r>
              <a:rPr b="0" i="1" lang="en-US" sz="2800" spc="-1" strike="noStrike">
                <a:solidFill>
                  <a:srgbClr val="000000"/>
                </a:solidFill>
                <a:latin typeface="Calibri"/>
              </a:rPr>
              <a:t>integrity</a:t>
            </a:r>
            <a:r>
              <a:rPr b="0" lang="en-US" sz="2800" spc="-1" strike="noStrike">
                <a:solidFill>
                  <a:srgbClr val="000000"/>
                </a:solidFill>
                <a:latin typeface="Calibri"/>
              </a:rPr>
              <a:t> are more important)</a:t>
            </a:r>
            <a:endParaRPr b="0" lang="en-US" sz="28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AB5D-2B98-41BF-95D0-3114CD8585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input</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a:t>
            </a:r>
            <a:r>
              <a:rPr b="0" i="1" lang="en-US" sz="3200" spc="-1" strike="noStrike">
                <a:solidFill>
                  <a:srgbClr val="000000"/>
                </a:solidFill>
                <a:latin typeface="Calibri"/>
              </a:rPr>
              <a:t>crash </a:t>
            </a:r>
            <a:r>
              <a:rPr b="0" lang="en-US" sz="3200" spc="-1" strike="noStrike">
                <a:solidFill>
                  <a:srgbClr val="000000"/>
                </a:solidFill>
                <a:latin typeface="Calibri"/>
              </a:rPr>
              <a:t>when bad input oc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sets up easy Do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lformed input should stop processing that request &amp; prep for next reques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try to “figure out what the user wanted” – if it’s security-related, just deny servi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reply with too much inform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 “access denied” &amp; log the rest</a:t>
            </a:r>
            <a:endParaRPr b="0" lang="en-US" sz="28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A98B-5274-496F-BD1D-A78D150A1F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 race conditions</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ce condition'' = “Anomalous behavior due to unexpected critical dependence on the relative timing of events'' [FOLDO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volve one or more proce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ssing a shared resource (e.g., file or vari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multiple access isn’t properly controlle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blems becaus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quencing (non-atomic) problem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ference often from untrusted process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ically solve by creating lock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adlock/livelock/locking fail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ference from trusted process, often same program</a:t>
            </a:r>
            <a:endParaRPr b="0" lang="en-US" sz="20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C9E1-A8A1-4497-AC08-A9EE08A2AA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quencing/Non-atomic problem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ern systems have many process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if one processor, typically simulate man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ading/saving shared resource must be controll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variable (memo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not controlled, may lead to vulnerability</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A89E-14D9-455C-984B-B7EC2B9749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atomic “Add 1”</a:t>
            </a:r>
            <a:endParaRPr b="0" lang="en-US" sz="4400" spc="-1" strike="noStrike">
              <a:solidFill>
                <a:srgbClr val="000000"/>
              </a:solidFill>
              <a:latin typeface="Calibri"/>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952C-B540-45F1-847A-BA24F733CF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TextBox 4"/>
          <p:cNvSpPr/>
          <p:nvPr/>
        </p:nvSpPr>
        <p:spPr>
          <a:xfrm>
            <a:off x="1255680" y="14590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a:t>
            </a:r>
            <a:endParaRPr b="0" lang="en-US" sz="1800" spc="-1" strike="noStrike">
              <a:solidFill>
                <a:srgbClr val="000000"/>
              </a:solidFill>
              <a:latin typeface="Arial"/>
            </a:endParaRPr>
          </a:p>
        </p:txBody>
      </p:sp>
      <p:sp>
        <p:nvSpPr>
          <p:cNvPr id="119" name="TextBox 5"/>
          <p:cNvSpPr/>
          <p:nvPr/>
        </p:nvSpPr>
        <p:spPr>
          <a:xfrm>
            <a:off x="3136320" y="1459080"/>
            <a:ext cx="195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variable x</a:t>
            </a:r>
            <a:endParaRPr b="0" lang="en-US" sz="1800" spc="-1" strike="noStrike">
              <a:solidFill>
                <a:srgbClr val="000000"/>
              </a:solidFill>
              <a:latin typeface="Arial"/>
            </a:endParaRPr>
          </a:p>
        </p:txBody>
      </p:sp>
      <p:sp>
        <p:nvSpPr>
          <p:cNvPr id="120" name="TextBox 6"/>
          <p:cNvSpPr/>
          <p:nvPr/>
        </p:nvSpPr>
        <p:spPr>
          <a:xfrm>
            <a:off x="5722920" y="14652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a:t>
            </a:r>
            <a:endParaRPr b="0" lang="en-US" sz="1800" spc="-1" strike="noStrike">
              <a:solidFill>
                <a:srgbClr val="000000"/>
              </a:solidFill>
              <a:latin typeface="Arial"/>
            </a:endParaRPr>
          </a:p>
        </p:txBody>
      </p:sp>
      <p:sp>
        <p:nvSpPr>
          <p:cNvPr id="121" name="TextBox 7"/>
          <p:cNvSpPr/>
          <p:nvPr/>
        </p:nvSpPr>
        <p:spPr>
          <a:xfrm>
            <a:off x="1330920" y="228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x</a:t>
            </a:r>
            <a:endParaRPr b="0" lang="en-US" sz="1800" spc="-1" strike="noStrike">
              <a:solidFill>
                <a:srgbClr val="000000"/>
              </a:solidFill>
              <a:latin typeface="Arial"/>
            </a:endParaRPr>
          </a:p>
        </p:txBody>
      </p:sp>
      <p:sp>
        <p:nvSpPr>
          <p:cNvPr id="122" name="TextBox 8"/>
          <p:cNvSpPr/>
          <p:nvPr/>
        </p:nvSpPr>
        <p:spPr>
          <a:xfrm>
            <a:off x="5826240" y="228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x</a:t>
            </a:r>
            <a:endParaRPr b="0" lang="en-US" sz="1800" spc="-1" strike="noStrike">
              <a:solidFill>
                <a:srgbClr val="000000"/>
              </a:solidFill>
              <a:latin typeface="Arial"/>
            </a:endParaRPr>
          </a:p>
        </p:txBody>
      </p:sp>
      <p:sp>
        <p:nvSpPr>
          <p:cNvPr id="123" name="TextBox 10"/>
          <p:cNvSpPr/>
          <p:nvPr/>
        </p:nvSpPr>
        <p:spPr>
          <a:xfrm>
            <a:off x="3878640" y="22860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4" name="TextBox 11"/>
          <p:cNvSpPr/>
          <p:nvPr/>
        </p:nvSpPr>
        <p:spPr>
          <a:xfrm>
            <a:off x="1334160" y="3048120"/>
            <a:ext cx="252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 Accumulator</a:t>
            </a:r>
            <a:endParaRPr b="0" lang="en-US" sz="1800" spc="-1" strike="noStrike">
              <a:solidFill>
                <a:srgbClr val="000000"/>
              </a:solidFill>
              <a:latin typeface="Arial"/>
            </a:endParaRPr>
          </a:p>
        </p:txBody>
      </p:sp>
      <p:sp>
        <p:nvSpPr>
          <p:cNvPr id="125" name="TextBox 12"/>
          <p:cNvSpPr/>
          <p:nvPr/>
        </p:nvSpPr>
        <p:spPr>
          <a:xfrm>
            <a:off x="5799600" y="3249720"/>
            <a:ext cx="252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 Accumulator</a:t>
            </a:r>
            <a:endParaRPr b="0" lang="en-US" sz="1800" spc="-1" strike="noStrike">
              <a:solidFill>
                <a:srgbClr val="000000"/>
              </a:solidFill>
              <a:latin typeface="Arial"/>
            </a:endParaRPr>
          </a:p>
        </p:txBody>
      </p:sp>
      <p:sp>
        <p:nvSpPr>
          <p:cNvPr id="126" name="TextBox 13"/>
          <p:cNvSpPr/>
          <p:nvPr/>
        </p:nvSpPr>
        <p:spPr>
          <a:xfrm>
            <a:off x="1384200" y="3809880"/>
            <a:ext cx="90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x</a:t>
            </a:r>
            <a:endParaRPr b="0" lang="en-US" sz="1800" spc="-1" strike="noStrike">
              <a:solidFill>
                <a:srgbClr val="000000"/>
              </a:solidFill>
              <a:latin typeface="Arial"/>
            </a:endParaRPr>
          </a:p>
        </p:txBody>
      </p:sp>
      <p:sp>
        <p:nvSpPr>
          <p:cNvPr id="127" name="TextBox 14"/>
          <p:cNvSpPr/>
          <p:nvPr/>
        </p:nvSpPr>
        <p:spPr>
          <a:xfrm>
            <a:off x="5871240" y="4332240"/>
            <a:ext cx="90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x</a:t>
            </a:r>
            <a:endParaRPr b="0" lang="en-US" sz="1800" spc="-1" strike="noStrike">
              <a:solidFill>
                <a:srgbClr val="000000"/>
              </a:solidFill>
              <a:latin typeface="Arial"/>
            </a:endParaRPr>
          </a:p>
        </p:txBody>
      </p:sp>
      <p:sp>
        <p:nvSpPr>
          <p:cNvPr id="128" name="TextBox 15"/>
          <p:cNvSpPr/>
          <p:nvPr/>
        </p:nvSpPr>
        <p:spPr>
          <a:xfrm>
            <a:off x="888480" y="26082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9" name="TextBox 16"/>
          <p:cNvSpPr/>
          <p:nvPr/>
        </p:nvSpPr>
        <p:spPr>
          <a:xfrm>
            <a:off x="7698960" y="26226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0" name="TextBox 17"/>
          <p:cNvSpPr/>
          <p:nvPr/>
        </p:nvSpPr>
        <p:spPr>
          <a:xfrm>
            <a:off x="875880" y="341784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1" name="TextBox 18"/>
          <p:cNvSpPr/>
          <p:nvPr/>
        </p:nvSpPr>
        <p:spPr>
          <a:xfrm>
            <a:off x="7698960" y="36702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2" name="TextBox 19"/>
          <p:cNvSpPr/>
          <p:nvPr/>
        </p:nvSpPr>
        <p:spPr>
          <a:xfrm>
            <a:off x="3878640" y="380988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3" name="TextBox 20"/>
          <p:cNvSpPr/>
          <p:nvPr/>
        </p:nvSpPr>
        <p:spPr>
          <a:xfrm>
            <a:off x="3878640" y="487692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cxnSp>
        <p:nvCxnSpPr>
          <p:cNvPr id="134" name="Straight Arrow Connector 22"/>
          <p:cNvCxnSpPr/>
          <p:nvPr/>
        </p:nvCxnSpPr>
        <p:spPr>
          <a:xfrm flipH="1">
            <a:off x="1379160" y="2469960"/>
            <a:ext cx="2355120" cy="338760"/>
          </a:xfrm>
          <a:prstGeom prst="straightConnector1">
            <a:avLst/>
          </a:prstGeom>
          <a:ln w="12600">
            <a:solidFill>
              <a:srgbClr val="000000"/>
            </a:solidFill>
            <a:miter/>
            <a:tailEnd len="med" type="arrow" w="med"/>
          </a:ln>
        </p:spPr>
      </p:cxnSp>
      <p:cxnSp>
        <p:nvCxnSpPr>
          <p:cNvPr id="135" name="Straight Arrow Connector 24"/>
          <p:cNvCxnSpPr/>
          <p:nvPr/>
        </p:nvCxnSpPr>
        <p:spPr>
          <a:xfrm>
            <a:off x="1676160" y="3754440"/>
            <a:ext cx="2057760" cy="240480"/>
          </a:xfrm>
          <a:prstGeom prst="straightConnector1">
            <a:avLst/>
          </a:prstGeom>
          <a:ln w="12600">
            <a:solidFill>
              <a:srgbClr val="000000"/>
            </a:solidFill>
            <a:miter/>
            <a:tailEnd len="med" type="arrow" w="med"/>
          </a:ln>
        </p:spPr>
      </p:cxnSp>
      <p:cxnSp>
        <p:nvCxnSpPr>
          <p:cNvPr id="136" name="Straight Arrow Connector 26"/>
          <p:cNvCxnSpPr/>
          <p:nvPr/>
        </p:nvCxnSpPr>
        <p:spPr>
          <a:xfrm>
            <a:off x="4267080" y="2469960"/>
            <a:ext cx="3353760" cy="338760"/>
          </a:xfrm>
          <a:prstGeom prst="straightConnector1">
            <a:avLst/>
          </a:prstGeom>
          <a:ln w="12600">
            <a:solidFill>
              <a:srgbClr val="000000"/>
            </a:solidFill>
            <a:miter/>
            <a:tailEnd len="med" type="arrow" w="med"/>
          </a:ln>
        </p:spPr>
      </p:cxnSp>
      <p:cxnSp>
        <p:nvCxnSpPr>
          <p:cNvPr id="137" name="Straight Arrow Connector 28"/>
          <p:cNvCxnSpPr/>
          <p:nvPr/>
        </p:nvCxnSpPr>
        <p:spPr>
          <a:xfrm flipH="1">
            <a:off x="4494960" y="3785760"/>
            <a:ext cx="3125160" cy="1167480"/>
          </a:xfrm>
          <a:prstGeom prst="straightConnector1">
            <a:avLst/>
          </a:prstGeom>
          <a:ln w="12600">
            <a:solidFill>
              <a:srgbClr val="000000"/>
            </a:solidFill>
            <a:miter/>
            <a:tailEnd len="med" type="arrow" w="med"/>
          </a:ln>
        </p:spPr>
      </p:cxnSp>
      <p:sp>
        <p:nvSpPr>
          <p:cNvPr id="138" name="TextBox 29"/>
          <p:cNvSpPr/>
          <p:nvPr/>
        </p:nvSpPr>
        <p:spPr>
          <a:xfrm>
            <a:off x="2249280" y="5867280"/>
            <a:ext cx="42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lock means 3+2 = 4!</a:t>
            </a:r>
            <a:endParaRPr b="0" lang="en-US" sz="2400" spc="-1" strike="noStrike">
              <a:solidFill>
                <a:srgbClr val="000000"/>
              </a:solidFill>
              <a:latin typeface="Arial"/>
            </a:endParaRPr>
          </a:p>
        </p:txBody>
      </p:sp>
      <p:cxnSp>
        <p:nvCxnSpPr>
          <p:cNvPr id="139" name="Straight Arrow Connector 31"/>
          <p:cNvCxnSpPr/>
          <p:nvPr/>
        </p:nvCxnSpPr>
        <p:spPr>
          <a:xfrm>
            <a:off x="609120" y="4700520"/>
            <a:ext cx="1080" cy="1015200"/>
          </a:xfrm>
          <a:prstGeom prst="straightConnector1">
            <a:avLst/>
          </a:prstGeom>
          <a:ln w="12600">
            <a:solidFill>
              <a:srgbClr val="000000"/>
            </a:solidFill>
            <a:miter/>
            <a:tailEnd len="med" type="arrow" w="med"/>
          </a:ln>
        </p:spPr>
      </p:cxnSp>
      <p:sp>
        <p:nvSpPr>
          <p:cNvPr id="140" name="TextBox 32"/>
          <p:cNvSpPr/>
          <p:nvPr/>
        </p:nvSpPr>
        <p:spPr>
          <a:xfrm rot="16200000">
            <a:off x="140040" y="50234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141" name="Straight Connector 34"/>
          <p:cNvSpPr/>
          <p:nvPr/>
        </p:nvSpPr>
        <p:spPr>
          <a:xfrm>
            <a:off x="1852560" y="1828800"/>
            <a:ext cx="0" cy="3232080"/>
          </a:xfrm>
          <a:prstGeom prst="line">
            <a:avLst/>
          </a:prstGeom>
          <a:ln w="648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Straight Connector 35"/>
          <p:cNvSpPr/>
          <p:nvPr/>
        </p:nvSpPr>
        <p:spPr>
          <a:xfrm>
            <a:off x="6307200" y="1835280"/>
            <a:ext cx="0" cy="3232080"/>
          </a:xfrm>
          <a:prstGeom prst="line">
            <a:avLst/>
          </a:prstGeom>
          <a:ln w="648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CTOU</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ure programs must:</a:t>
            </a:r>
            <a:endParaRPr b="0" lang="en-US" sz="32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 if a request should be granted, and</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k, act on that reques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not be possible for untrusted user to change anything relevant between #1 and #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can, termed “time of check - time of use” (TOCTOU) race condition</a:t>
            </a:r>
            <a:endParaRPr b="0" lang="en-US" sz="3200" spc="-1" strike="noStrike">
              <a:solidFill>
                <a:srgbClr val="000000"/>
              </a:solidFill>
              <a:latin typeface="Calibri"/>
            </a:endParaRPr>
          </a:p>
          <a:p>
            <a:pPr lvl="1" marL="97164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best to just try to perform action (if atomic), and then look at error condition</a:t>
            </a:r>
            <a:endParaRPr b="0" lang="en-US" sz="28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86C3-6809-475C-AF5E-8CB86E21C1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actions in filesystem</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filesystem shared, can cause problem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use “access(2)” to see if can do something</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haps things will chang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st try to open file &amp; check for error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creating a file, use open O_CREAT | O_EXC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11 specification adds new fopen “x” exclusive mod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ns fopen fails if the file already exists or cannot be creat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wise, the file is created with exclusive (also known as non-shared) access</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other languages build on C’s “fope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 this addition simplifies exclusive access</a:t>
            </a:r>
            <a:endParaRPr b="0" lang="en-US" sz="20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817B-3CF4-4AC9-92DA-E67FEE0E31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mp &amp; /var/tmp directories</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ypically shared among process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d for “temporary” files and for sharing data between process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very careful creating files he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ny shared directory, repeatedl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random'' filenam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 it using O_CREAT | O_EXCL and very narrow permissions (atomically creates the file, else fail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op repeating when the open succeed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wise, if attacker can create that file first, attacker owns &amp; controls it</a:t>
            </a:r>
            <a:endParaRPr b="0" lang="en-US" sz="30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E611-97B4-4403-97F1-23084C9D00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system: Insecure &amp; secure</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themselves, many library implementations for creating temporary files aren’t secure</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mpfile(3), mktemp(3), tmpnam(3)</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ell convention “$$” isn’t secure – predictable filenames!</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ead, wrap in larger (securing) routines</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rst, set creation file permissions to limit them</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name tempnam(3), try open O_CREAT | O_EXCL</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eat previous step until success</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ktemp(1) is okay… unless temp clean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mated “cleanup” can enable a race condition</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fely created, temp cleaner erases, attacker creates</a:t>
            </a:r>
            <a:endParaRPr b="0" lang="en-US" sz="22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4980-7B26-4449-B7AB-A4769868A6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bolic &amp; hard link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x-like systems allow “link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mbolic lin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res the name of another fil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attempt to open this file redirected by nam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d lin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another name for </a:t>
            </a:r>
            <a:r>
              <a:rPr b="0" i="1" lang="en-US" sz="2400" spc="-1" strike="noStrike">
                <a:solidFill>
                  <a:srgbClr val="000000"/>
                </a:solidFill>
                <a:latin typeface="Calibri"/>
              </a:rPr>
              <a:t>same</a:t>
            </a:r>
            <a:r>
              <a:rPr b="0" lang="en-US" sz="2400" spc="-1" strike="noStrike">
                <a:solidFill>
                  <a:srgbClr val="000000"/>
                </a:solidFill>
                <a:latin typeface="Calibri"/>
              </a:rPr>
              <a:t> fil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 counts how many links to file exis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ackers may create links to existing fi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ck privileged program into revealing/changing it</a:t>
            </a:r>
            <a:endParaRPr b="0" lang="en-US" sz="28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32F7-C6CA-4EBF-8D27-AD9E65001F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tzer and Schroeder</a:t>
            </a:r>
            <a:br>
              <a:rPr sz="4400"/>
            </a:br>
            <a:r>
              <a:rPr b="0" lang="en-US" sz="4400" spc="-1" strike="noStrike">
                <a:solidFill>
                  <a:srgbClr val="000000"/>
                </a:solidFill>
                <a:latin typeface="Calibri"/>
              </a:rPr>
              <a:t>design principles (1)</a:t>
            </a:r>
            <a:endParaRPr b="0" lang="en-US" sz="4400" spc="-1" strike="noStrike">
              <a:solidFill>
                <a:srgbClr val="000000"/>
              </a:solidFill>
              <a:latin typeface="Calibri"/>
            </a:endParaRPr>
          </a:p>
        </p:txBody>
      </p:sp>
      <p:sp>
        <p:nvSpPr>
          <p:cNvPr id="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st privileg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user and program should operate using fewest privileges possi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s the damage from an accident, error, or attac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s number of potential interactions among privileged programs</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nintentional, unwanted, or improper uses of privilege less likely</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 to the internals of a program: only smallest portion of program which needs those privileges should have them</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conomy of mechanism/Simplicit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system's design should be simple and small as possi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echniques such as line-by-line inspection of software and physical examination of hardware that implements protection mechanisms are necessary. For such techniques to be successful, a small and simple design is essenti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ka “KISS” principle (``keep it simple, stupid'')</a:t>
            </a:r>
            <a:endParaRPr b="0" lang="en-US" sz="20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D5FF-F612-41CD-B87A-F954C7685B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ing</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ften program must have exclusive rights (“lock”)</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 lock problems:</a:t>
            </a:r>
            <a:endParaRPr b="0" lang="en-US" sz="3000" spc="-1" strike="noStrike">
              <a:solidFill>
                <a:srgbClr val="000000"/>
              </a:solidFill>
              <a:latin typeface="Calibri"/>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adlocks (“deadly embraces”)</a:t>
            </a:r>
            <a:endParaRPr b="0" lang="en-US" sz="2600" spc="-1" strike="noStrike">
              <a:solidFill>
                <a:srgbClr val="000000"/>
              </a:solidFill>
              <a:latin typeface="Calibri"/>
            </a:endParaRPr>
          </a:p>
          <a:p>
            <a:pPr lvl="2" marL="1108440" indent="-2214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ess 1 locks A and waits for B; process 2 locks B and waits for A</a:t>
            </a:r>
            <a:endParaRPr b="0" lang="en-US" sz="2200" spc="-1" strike="noStrike">
              <a:solidFill>
                <a:srgbClr val="000000"/>
              </a:solidFill>
              <a:latin typeface="Calibri"/>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velocks</a:t>
            </a:r>
            <a:endParaRPr b="0" lang="en-US" sz="2600" spc="-1" strike="noStrike">
              <a:solidFill>
                <a:srgbClr val="000000"/>
              </a:solidFill>
              <a:latin typeface="Calibri"/>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easing “stuck” locks if program doesn’t clean up</a:t>
            </a:r>
            <a:endParaRPr b="0" lang="en-US" sz="26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deadlocks/livelocks can be prevented simply:</a:t>
            </a:r>
            <a:endParaRPr b="0" lang="en-US" sz="3000" spc="-1" strike="noStrike">
              <a:solidFill>
                <a:srgbClr val="000000"/>
              </a:solidFill>
              <a:latin typeface="Calibri"/>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 all processes create locks in the same order</a:t>
            </a:r>
            <a:endParaRPr b="0" lang="en-US" sz="26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4813-2FEB-4BAB-8ED9-373761B27D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s as lock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lock on Unix-like syste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file to assert a loc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var/run/NAME.pi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ck stuck, can easily see (ls) &amp; fix (r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s fine </a:t>
            </a:r>
            <a:r>
              <a:rPr b="0" i="1" lang="en-US" sz="2800" spc="-1" strike="noStrike">
                <a:solidFill>
                  <a:srgbClr val="000000"/>
                </a:solidFill>
                <a:latin typeface="Calibri"/>
              </a:rPr>
              <a:t>if</a:t>
            </a:r>
            <a:r>
              <a:rPr b="0" lang="en-US" sz="2800" spc="-1" strike="noStrike">
                <a:solidFill>
                  <a:srgbClr val="000000"/>
                </a:solidFill>
                <a:latin typeface="Calibri"/>
              </a:rPr>
              <a:t> O_CREAT|O_EXCL fil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make sure that file permissions don’t let attacker i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ide threads, use threading systems’ locks</a:t>
            </a:r>
            <a:endParaRPr b="0" lang="en-US" sz="32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F96A-C256-4709-AE7A-028DEC57AC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 sharing</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sharing resour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haring means no race cond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haring means attack on one might not affect the oth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overt channels” are surreptitious ways to send data across data bounda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 some sort of sharing</a:t>
            </a:r>
            <a:endParaRPr b="0" lang="en-US" sz="28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F5E9-12C9-44DC-B854-D0D9A7A884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st only trustworthy channels</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P address typically forgeab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P port under attacker control (usuall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erse DNS entry (“given this IP address, what is the name?”) usually under attacker contr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ails easily forgeable (unless digitally signed)</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ailing back &amp; forth, with cryptographically random entries, may be okay for low-value info, but it’s not hard to defea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r (including web server) must assume that client (or middleman) is not trustworthy (client can do anyth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ent controls HTML “hidden fields”, HTTP_REFERER, &amp; cook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annot be trusted unless special precautions are taken (e.g., digitally signed, or encrypted using server-only 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ly better off keeping data you care about at the server end in a client/server model</a:t>
            </a:r>
            <a:endParaRPr b="0" lang="en-US" sz="20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854E-FA48-431F-8D79-AAA7AE5093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internal</a:t>
            </a:r>
            <a:br>
              <a:rPr sz="4400"/>
            </a:br>
            <a:r>
              <a:rPr b="0" lang="en-US" sz="4400" spc="-1" strike="noStrike">
                <a:solidFill>
                  <a:srgbClr val="000000"/>
                </a:solidFill>
                <a:latin typeface="Calibri"/>
              </a:rPr>
              <a:t>consistency-checking code</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 that key internal calls and basic state assumptions are val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key invariants, and actually check th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sure that they stay running in the deployed system</a:t>
            </a:r>
            <a:endParaRPr b="0" lang="en-US" sz="32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9DD9-FAC0-4FB3-BA0B-B69ADF58F5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f-limit resourc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d/limit excessive loa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setting limit values (e.g., setrlimit(2) to limit resource 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east, don’t record debug info like “core” files in deployed syst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contain sensitive data</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F23C-4BD6-414F-AC04-3AF4FC444C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e install/configuration</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 “default passwords” – force their sett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sure executables can’t be changed during normal opera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 executables (e.g., web apps) so they are owned by root/special install user, &amp; not writable by othe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 most programs run by othe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n if that process is broken into, attacker can’t easily subvert executable – no permis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means installation/update requires special permission, often true anywa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ample files for admins should be secure</a:t>
            </a:r>
            <a:endParaRPr b="0" lang="en-US" sz="30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AD4A-AC67-4096-9D1B-445376516B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e install/configuration (2)</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configuration data is from secured loc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c? $HOME? Environment variab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guration information should be in directories that can’t be easily accessed (at least write, maybe read).  Often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 “default deny”</a:t>
            </a:r>
            <a:endParaRPr b="0" lang="en-US" sz="32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CD9C-339B-4C67-938C-8115A6B9ED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ror reports</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 error information sent back to us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may help attack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Do</a:t>
            </a:r>
            <a:r>
              <a:rPr b="0" lang="en-US" sz="2800" spc="-1" strike="noStrike">
                <a:solidFill>
                  <a:srgbClr val="000000"/>
                </a:solidFill>
                <a:latin typeface="Calibri"/>
              </a:rPr>
              <a:t> log problems, in ways not available to potential adversar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login fail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 tell them “authorization failed” – not “no such user” or “password incorrect” or (worse) “need longer password”</a:t>
            </a:r>
            <a:endParaRPr b="0" lang="en-US" sz="28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42DD-91D5-44E5-9281-F5F6EC3E80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ense-in-depth</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y to make attacker break </a:t>
            </a:r>
            <a:r>
              <a:rPr b="0" i="1" lang="en-US" sz="3200" spc="-1" strike="noStrike">
                <a:solidFill>
                  <a:srgbClr val="000000"/>
                </a:solidFill>
                <a:latin typeface="Calibri"/>
              </a:rPr>
              <a:t>multiple</a:t>
            </a:r>
            <a:r>
              <a:rPr b="0" lang="en-US" sz="3200" spc="-1" strike="noStrike">
                <a:solidFill>
                  <a:srgbClr val="000000"/>
                </a:solidFill>
                <a:latin typeface="Calibri"/>
              </a:rPr>
              <a:t> countermeasures before attack succeeds, e.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ffer overflow countermea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privileg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guarantee against attack, but can hel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breaking all is necessary and each measure adds significant effort</a:t>
            </a:r>
            <a:endParaRPr b="0" lang="en-US" sz="2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7E23-9E73-49BA-A728-0EFB04B6D0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tzer and Schroeder</a:t>
            </a:r>
            <a:br>
              <a:rPr sz="4400"/>
            </a:br>
            <a:r>
              <a:rPr b="0" lang="en-US" sz="4400" spc="-1" strike="noStrike">
                <a:solidFill>
                  <a:srgbClr val="000000"/>
                </a:solidFill>
                <a:latin typeface="Calibri"/>
              </a:rPr>
              <a:t>design principles (2)</a:t>
            </a:r>
            <a:endParaRPr b="0" lang="en-US" sz="4400" spc="-1" strike="noStrike">
              <a:solidFill>
                <a:srgbClr val="000000"/>
              </a:solidFill>
              <a:latin typeface="Calibri"/>
            </a:endParaRPr>
          </a:p>
        </p:txBody>
      </p:sp>
      <p:sp>
        <p:nvSpPr>
          <p:cNvPr id="57"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n desig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tection mechanism must not depend on attacker ignora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ead, the mechanism should be public</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end on secrecy of relatively few (and easily changeable) items like passwords or private keys</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open design makes extensive public scrutiny possi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s it possible for users to convince themselves system is adequat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alistic to maintain secrecy for distributed system</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ompilers/subverted hardware quickly expose implementation “secre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n if you pretend that source code is necessary to find exploits (it isn't), source code has often been stolen and redistributed</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one of the oldest and strongly supported principles, based on many years in cryptography</a:t>
            </a:r>
            <a:endParaRPr b="0" lang="en-US" sz="1800" spc="-1" strike="noStrike">
              <a:solidFill>
                <a:srgbClr val="000000"/>
              </a:solidFill>
              <a:latin typeface="Calibri"/>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rckhoffs's Law: “A cryptosystem should be designed to be secure if everything is known about it except the key information”</a:t>
            </a:r>
            <a:endParaRPr b="0" lang="en-US" sz="1800" spc="-1" strike="noStrike">
              <a:solidFill>
                <a:srgbClr val="000000"/>
              </a:solidFill>
              <a:latin typeface="Calibri"/>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ude Shannon (inventor of information theory) restated Kerckhoff's Law as: “[Assume] the enemy knows the system”</a:t>
            </a:r>
            <a:endParaRPr b="0" lang="en-US" sz="18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6E53-F327-49B5-B6F4-D376A82BBB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ention is best – but not always possible</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enting break-in is bes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ense-in-depth: Attacker must break multiple level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t can’t always succeed</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sistent attacker will break through lay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ender has to “defend everywhere” while attacker may only require one mistake/subvers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so support “detect, contain, respond”</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tect: Logging / log analysis, tripwires,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ain: Limit privileges, sandboxes,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ponse: Record info as justifiable evidence</a:t>
            </a:r>
            <a:endParaRPr b="0" lang="en-US" sz="26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3657-C759-495C-9099-2577B0F482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ack (Threat) modeling</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have initial design, think like an attacker </a:t>
            </a:r>
            <a:r>
              <a:rPr b="0" i="1" lang="en-US" sz="2700" spc="-1" strike="noStrike">
                <a:solidFill>
                  <a:srgbClr val="000000"/>
                </a:solidFill>
                <a:latin typeface="Calibri"/>
              </a:rPr>
              <a:t>before</a:t>
            </a:r>
            <a:r>
              <a:rPr b="0" lang="en-US" sz="2700" spc="-1" strike="noStrike">
                <a:solidFill>
                  <a:srgbClr val="000000"/>
                </a:solidFill>
                <a:latin typeface="Calibri"/>
              </a:rPr>
              <a:t> implementing it (cheap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metimes called “threat modeling” (some object to term as misleading)</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rying approaches, often includ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security) requiremen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rchitecture/design model (need not be detail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to identify attacks/security threa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risk level, select countermeasur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luding design changes, additional components, etc.</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ep updating</a:t>
            </a:r>
            <a:endParaRPr b="0" lang="en-US" sz="24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8207-FBBA-4225-AED8-CE8786D1E6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approaches</a:t>
            </a: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tacker-centr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s with an attack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aluates their goals &amp; how they might achieve them (e.g., via entry poi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in CERT attack modeling approach</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sign-centr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s with the design of the system: steps through system model, looking for types of attacks against each el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in threat modeling in Microsoft’s Security Development Lifecycl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et-centr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s from key assets entrusted to a system</a:t>
            </a:r>
            <a:endParaRPr b="0" lang="en-US" sz="24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9EF0-F9E2-4D3C-B79A-D5DD0AFAC8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soft STRIDE Approach</a:t>
            </a:r>
            <a:endParaRPr b="0" lang="en-US" sz="4400" spc="-1" strike="noStrike">
              <a:solidFill>
                <a:srgbClr val="000000"/>
              </a:solidFill>
              <a:latin typeface="Calibri"/>
            </a:endParaRPr>
          </a:p>
        </p:txBody>
      </p:sp>
      <p:sp>
        <p:nvSpPr>
          <p:cNvPr id="198" name=""/>
          <p:cNvSpPr txBox="1"/>
          <p:nvPr/>
        </p:nvSpPr>
        <p:spPr>
          <a:xfrm>
            <a:off x="457200" y="1599840"/>
            <a:ext cx="8229600" cy="1523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compose system into relevant (design) component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s simple data flow diagrams, identify trust boundar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alyze each component for susceptibility to threa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itigate the threats</a:t>
            </a:r>
            <a:endParaRPr b="0" lang="en-US" sz="25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6457-CEB2-4829-8BEE-804C4288E9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0" name="TextBox 4"/>
          <p:cNvSpPr/>
          <p:nvPr/>
        </p:nvSpPr>
        <p:spPr>
          <a:xfrm>
            <a:off x="1634400" y="6324480"/>
            <a:ext cx="608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sdn.microsoft.com/en-us/magazine/cc163519.aspx</a:t>
            </a:r>
            <a:endParaRPr b="0" lang="en-US" sz="1800" spc="-1" strike="noStrike">
              <a:solidFill>
                <a:srgbClr val="000000"/>
              </a:solidFill>
              <a:latin typeface="Arial"/>
            </a:endParaRPr>
          </a:p>
        </p:txBody>
      </p:sp>
      <p:graphicFrame>
        <p:nvGraphicFramePr>
          <p:cNvPr id="201" name=""/>
          <p:cNvGraphicFramePr/>
          <p:nvPr/>
        </p:nvGraphicFramePr>
        <p:xfrm>
          <a:off x="1752480" y="3352680"/>
          <a:ext cx="5499360" cy="2773440"/>
        </p:xfrm>
        <a:graphic>
          <a:graphicData uri="http://schemas.openxmlformats.org/drawingml/2006/table">
            <a:tbl>
              <a:tblPr/>
              <a:tblGrid>
                <a:gridCol w="2832120"/>
                <a:gridCol w="2667240"/>
              </a:tblGrid>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STRIDE” Thre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curity Property</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ofing</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entic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mpering</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grity</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udi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repudi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disclosur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identiality</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nial of servic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ility</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vation of privileg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iz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202" name="Rectangle 2"/>
          <p:cNvSpPr/>
          <p:nvPr/>
        </p:nvSpPr>
        <p:spPr>
          <a:xfrm>
            <a:off x="457200" y="2765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 Attack Modeling</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simple design overview</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attack trees” – top is attacker’s objective, decompose down into conditions that achieve that (with AND or O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ise methods to counter attack (build on attack patter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Buffer Overflow Attack Patter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Exploit buffer overflow vulnerability to perform malicious function on target syst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condition: Attacker can execute certain programs on target syst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k:</a:t>
            </a:r>
            <a:endParaRPr b="0" lang="en-US" sz="1800" spc="-1" strike="noStrike">
              <a:solidFill>
                <a:srgbClr val="000000"/>
              </a:solidFill>
              <a:latin typeface="Calibri"/>
            </a:endParaRPr>
          </a:p>
          <a:p>
            <a:pPr lvl="2" marL="9144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ND 1. Identify executable program on target system susceptible to buffer overflow vulnerability</a:t>
            </a:r>
            <a:endParaRPr b="0" lang="en-US" sz="1500" spc="-1" strike="noStrike">
              <a:solidFill>
                <a:srgbClr val="000000"/>
              </a:solidFill>
              <a:latin typeface="Calibri"/>
            </a:endParaRPr>
          </a:p>
          <a:p>
            <a:pPr lvl="2" marL="9144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 Identify code that will perform malicious function when it executes with program’s privilege</a:t>
            </a:r>
            <a:endParaRPr b="0" lang="en-US" sz="1500" spc="-1" strike="noStrike">
              <a:solidFill>
                <a:srgbClr val="000000"/>
              </a:solidFill>
              <a:latin typeface="Calibri"/>
            </a:endParaRPr>
          </a:p>
          <a:p>
            <a:pPr lvl="2" marL="9144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 Construct input value that will force code to be in program’s address space</a:t>
            </a:r>
            <a:endParaRPr b="0" lang="en-US" sz="1500" spc="-1" strike="noStrike">
              <a:solidFill>
                <a:srgbClr val="000000"/>
              </a:solidFill>
              <a:latin typeface="Calibri"/>
            </a:endParaRPr>
          </a:p>
          <a:p>
            <a:pPr lvl="2" marL="9144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 Execute program in a way that makes it jump to address at which code resides</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condition: Target system performs malicious function</a:t>
            </a:r>
            <a:endParaRPr b="0" lang="en-US" sz="18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E809-4865-46E4-8100-CFBDAF0861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TextBox 4"/>
          <p:cNvSpPr/>
          <p:nvPr/>
        </p:nvSpPr>
        <p:spPr>
          <a:xfrm>
            <a:off x="3223080" y="5983200"/>
            <a:ext cx="538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cert.org/archive/pdf/01tn001.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EC</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EC = Common Attack Pattern Enumeration and Classific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k categories (per CAPEC-1000: Mechanism of Attack)</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ta Leakage Attacks (e.g., Probing an Application Through Targeting its Error Reporting)</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pletio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jection (e.g., SQL injection, command injectio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poofing</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ime and State Attack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buse of Functionality</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obabilistic Techniqu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ploitation of Authenticatio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ploitation of Privilege/Trus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ta Structure Attack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ource Manipulatio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hysical Security Attack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k pattern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etwork Reconnaissanc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ocial Engineering Attack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pply Chain Attacks</a:t>
            </a:r>
            <a:endParaRPr b="0" lang="en-US" sz="1500" spc="-1" strike="noStrike">
              <a:solidFill>
                <a:srgbClr val="000000"/>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DB7F-4838-4380-947F-3C53FDE530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TextBox 4"/>
          <p:cNvSpPr/>
          <p:nvPr/>
        </p:nvSpPr>
        <p:spPr>
          <a:xfrm>
            <a:off x="5264640" y="6338880"/>
            <a:ext cx="223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capec.mitre.org/</a:t>
            </a:r>
            <a:endParaRPr b="0" lang="en-US" sz="1200" spc="-1" strike="noStrike">
              <a:solidFill>
                <a:srgbClr val="000000"/>
              </a:solidFill>
              <a:latin typeface="Arial"/>
            </a:endParaRPr>
          </a:p>
        </p:txBody>
      </p:sp>
      <p:sp>
        <p:nvSpPr>
          <p:cNvPr id="211" name="TextBox 5"/>
          <p:cNvSpPr/>
          <p:nvPr/>
        </p:nvSpPr>
        <p:spPr>
          <a:xfrm>
            <a:off x="6109560" y="4191120"/>
            <a:ext cx="24775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EC can help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ink like an attack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you can part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cipate w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will try to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various key design princip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Saltzer and Schroede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design program to counter attack, e.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privileg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er TOCTOU issu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ttack/threat modeling to look for potentially-successful attack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fore the attacker tries them</a:t>
            </a:r>
            <a:endParaRPr b="0" lang="en-US" sz="2800" spc="-1" strike="noStrike">
              <a:solidFill>
                <a:srgbClr val="000000"/>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8755-146F-43F0-B81B-75887AA658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ased under CC BY-SA 3.0</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esentation is released under the Creative Commons Attribution-ShareAlike 3.0 Unported (CC BY-SA 3.0) licens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re fre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hare — to copy, distribute and transmi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ix — to adap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ke commercial use of the work</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following condi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ribution — You must attribute the work in the manner specified by the author or licensor (but not in any way that suggests that they endorse you or your use of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 Alike — If you alter, transform, or build upon this work, you may distribute the resulting work only under the same or similar license to this on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ditions can be waived by permission from the copyright hol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heeler at dwheeler dot co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ails at: http://creativecommons.org/licenses/by-sa/3.0/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ribute me as “David A. Wheeler”</a:t>
            </a:r>
            <a:endParaRPr b="0" lang="en-US" sz="20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9999-D16F-41E5-BD00-5F4AB6F551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tzer and Schroeder</a:t>
            </a:r>
            <a:br>
              <a:rPr sz="4400"/>
            </a:br>
            <a:r>
              <a:rPr b="0" lang="en-US" sz="4400" spc="-1" strike="noStrike">
                <a:solidFill>
                  <a:srgbClr val="000000"/>
                </a:solidFill>
                <a:latin typeface="Calibri"/>
              </a:rPr>
              <a:t>design principles (3)</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lete mediation (“non-bypassabl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y access attempt must be checked; position the mechanism so it cannot be subverted. For example, in a client-server model, generally the server must do all access checking because users can build or modify their own client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ail-safe defaults (e.g., permission-based approach)</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efault should be denial of service, and the protection scheme should then identify conditions under which access is permitt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paration of privileg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ally, access to objects should depend on more than one condition, so that defeating one protection system won't enable complete access</a:t>
            </a:r>
            <a:endParaRPr b="0" lang="en-US" sz="22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1C9B-42C4-499A-A1B2-BF39067F6A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tzer and Schroeder</a:t>
            </a:r>
            <a:br>
              <a:rPr sz="4400"/>
            </a:br>
            <a:r>
              <a:rPr b="0" lang="en-US" sz="4400" spc="-1" strike="noStrike">
                <a:solidFill>
                  <a:srgbClr val="000000"/>
                </a:solidFill>
                <a:latin typeface="Calibri"/>
              </a:rPr>
              <a:t>design principles (4)</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ast common mechanism</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amount and use of shared mechanisms (e.g. use of the /tmp or /var/tmp directori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objects provide potentially dangerous channels for information flow and unintended interaction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sychological acceptability / Easy to us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uman interface must be designed for ease of use so users will routinely and automatically use the protection mechanisms correctl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takes will be reduced if the security mechanisms closely match the user's mental image of his or her protection goals</a:t>
            </a: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62DD-E591-4754-A5D1-E86E9EDFB3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secure software is </a:t>
            </a:r>
            <a:r>
              <a:rPr b="0" i="1" lang="en-US" sz="4400" spc="-1" strike="noStrike">
                <a:solidFill>
                  <a:srgbClr val="000000"/>
                </a:solidFill>
                <a:latin typeface="Calibri"/>
              </a:rPr>
              <a:t>not</a:t>
            </a:r>
            <a:r>
              <a:rPr b="0" lang="en-US" sz="4400" spc="-1" strike="noStrike">
                <a:solidFill>
                  <a:srgbClr val="000000"/>
                </a:solidFill>
                <a:latin typeface="Calibri"/>
              </a:rPr>
              <a:t> new &amp; unknow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tzer &amp; Schroeder principles, &amp; many specifics, publicly known since at least 197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is that most software </a:t>
            </a:r>
            <a:r>
              <a:rPr b="0" i="1" lang="en-US" sz="3200" spc="-1" strike="noStrike">
                <a:solidFill>
                  <a:srgbClr val="000000"/>
                </a:solidFill>
                <a:latin typeface="Calibri"/>
              </a:rPr>
              <a:t>developers</a:t>
            </a:r>
            <a:r>
              <a:rPr b="0" lang="en-US" sz="3200" spc="-1" strike="noStrike">
                <a:solidFill>
                  <a:srgbClr val="000000"/>
                </a:solidFill>
                <a:latin typeface="Calibri"/>
              </a:rPr>
              <a:t> do not know how to do i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kers, of course, know this</a:t>
            </a:r>
            <a:endParaRPr b="0" lang="en-US" sz="28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76C8-BDBF-4C15-8BDB-6D5255921E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rinciple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esign must also consider other requirements &amp; specific circumsta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l details apply to all syste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apps ≠ Local apps ≠ GUI ≠ setuid progra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better to know the larger set of issu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ver specific design issu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just add details on S&amp;S principles</a:t>
            </a:r>
            <a:endParaRPr b="0" lang="en-US" sz="28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A06C-B8FA-406F-B7BC-0001937AC5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ing the interfa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faces should b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al (simple as possi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rrow (provide only the functions need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n-bypass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ust should be minimiz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limiting the data the user can s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ve already discussed filtering input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web browser/client, security tests must be in server not browser</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owser tests bypassable; we’ll discuss more later</a:t>
            </a:r>
            <a:endParaRPr b="0" lang="en-US" sz="26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2226-C95D-4F5B-9CF5-0E4DF768DB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22:14:44Z</dcterms:created>
  <dc:creator>David A. Wheeler</dc:creator>
  <dc:description/>
  <cp:keywords>input validation regulation expressions attack surface</cp:keywords>
  <dc:language>en-US</dc:language>
  <cp:lastModifiedBy>Wheeler, David A</cp:lastModifiedBy>
  <dcterms:modified xsi:type="dcterms:W3CDTF">2015-04-01T01:00:16Z</dcterms:modified>
  <cp:revision>380</cp:revision>
  <dc:subject>Secure Software Design &amp; Programming - Input Validation</dc:subject>
  <dc:title>SWE 781 / ISA 681 Secure Software Design &amp; Programming</dc:title>
</cp:coreProperties>
</file>